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084D3-24B0-4B93-A27B-039E462CE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87692-94BB-4E91-805E-CA90C140B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02919-20DC-4794-AD55-22E9D941F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383F1-5E5D-47E0-93F5-EB6502823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F330C-09C1-4AEC-BF1C-2783827A1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5710F-3BB0-4F02-AE6A-48E35C208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B07FF-550A-44B0-807F-77D18FD69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6FD64-39BF-4432-BD79-1BF268794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109A4-17BA-458D-9313-D283AFE90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B5D53-1551-461B-A561-DB26CDDE2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2D8FE-2DE1-478D-B1CE-79BD6175F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0F80E-8691-4EF4-9690-18B16D28B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35E29-C0E8-4208-B3E6-DC4E5FC1C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3679E-B193-4F66-8398-AB2CCB5FA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1D899-CA41-48CA-9CCA-E95ABF06B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907AB-7222-4EF7-868B-9849F47D2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B556C-F121-47CD-9A92-F3266026E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21DF73-74BD-4070-8358-E5759D400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D8547D-332F-4CED-AB4C-E1429273F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6D6C18-3648-4BBA-A076-B4F5408C6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02D245-385F-4697-939E-0794903CD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54C493-2FC3-4C7F-88FF-F55FFFFF8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5FC77-02E4-4660-B15A-B2529657B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1987B9-A16E-4973-9246-DFCAFF894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9F12A5-1EAA-4442-B68D-787A23F4D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1C7DE9-CE51-4142-96A5-A6DC5E78C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24C9B1-8D28-4A1C-B1B9-384EC0F69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00ECBC-8DF9-4B33-8BC8-05C530C6A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2CA501-B225-49D4-98E6-AABD2343E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C61416-7B7B-46DA-AD61-A703B8381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43E1A9-8E4F-4CEA-8A63-A59D13152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0B9044-8E7A-4727-8EAF-956C47BEB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3B043B-569C-4F2F-ABA9-D65DFD5EA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92B92-D468-41A3-9B76-4C48A98C7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A45B95-8BAF-45CC-A205-8D6CCF3D9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BBF668-2320-4135-8346-C5E4FF1BA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162063-1372-452E-BA30-368D2D078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90FF2A-CDDB-472C-8593-C5A9886BE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E2C186-C1A4-42DE-9C72-7820DCF2C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A69721-C227-42CE-9157-71E7AAA07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BB052C-8A1B-4624-85BC-F0E1D4BF4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CF4F73-46BD-440A-BFBB-C61427732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DE4B3D-78D2-421C-AA0E-A2A21C859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268052-2390-4E90-BB41-89E384ADA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88B65-8525-4036-99FC-A64ECDBA0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68C3A6-0987-43E6-B5ED-1B38238CC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B51DD7-8CED-4429-AEF7-41C8F6391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8D363E-07C6-4A0C-8780-74F7318B3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F2D44E-D0DF-4047-B417-71407DF3C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E4AD94-B985-41FD-8D3F-B313DBD65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C82F8E-E676-45FD-9197-D7989CC24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3F6F69-896B-442F-8546-0AD02CB64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9B8AF0-FAC6-4D66-A94C-68050D132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F7F141-49B9-4930-A341-3E829DE07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282705-855F-477A-8F1C-69893CBFA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01181-6E3A-4343-98AF-72DFB70FE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F0DC07-67AA-42E5-AC5A-226236398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80E8DE-960F-4A40-A273-3F96FA382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495A4D-C24E-43BB-BA2D-AB54A7D90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ACBCBF-EC41-4DAD-B187-8589B0A17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9AF1FF-DB96-4C55-AEA6-99E33DA76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6B36F8-44B8-494B-9DEE-2D611E68C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E8BE2D-9AD8-469B-A2E6-0988B5FC2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E3D029-FC00-488F-A245-5A450D806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35B53A-D7AF-4EAF-AB37-209CF64B1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9C2AC6-7397-4F80-AE7B-CF60298B7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FFDCE-1E4E-4480-8B4A-BA6C5C231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A4C0E0-E9FE-46C9-8AF4-F38EBF2F0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8B0A9E-5C83-40FD-A568-8E36FDB89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DE6CF1-B151-4928-AC19-1F28A70F6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F3C5E2-51FB-40F5-A43C-25AFBB085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370B1B-2092-492C-A84F-09676F63F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CCC732-BD0F-4597-A98C-21B17B113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441907-069C-4DBE-BEBD-EF97DA37E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2C9198-8595-482F-9DF2-AE28653FD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9CC892-2CA9-4B9C-A24C-D18E42DFE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A6B27F-4FE6-47D2-BD5A-0FB76464D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41A71-2A29-45A4-AF0C-7AFCFB29B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353668-7B41-4638-A3A4-7E5623DD8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BA81A3-763F-4541-B2F3-E401FE1D9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E99200-B4D8-4DAA-8671-74923221A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028576-1CBF-45A6-A215-39BF22666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708B42-3DD2-4242-9623-C94ED37E6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7AD74-77DB-45CF-9587-10E10C259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AA8B5-C494-4321-88CD-D6886EC90960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0959E-196A-4722-8003-7CFDD4CD6539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0EC5E-14D9-4450-981E-3EA12258DABF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1F7B3-E58A-4FA9-A9A3-2B3B1F8B5A8F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67030-62BC-4B4C-9DD3-EBBE71330BD4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84631-7F11-4C1D-9492-F545B53096F7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FAA45-97D8-4C98-ABA0-B3FDAE4290DB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16000" y="5229360"/>
            <a:ext cx="73454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572314"/>
                </a:solidFill>
                <a:latin typeface="Bookman Old Style"/>
                <a:ea typeface="Arial Unicode MS"/>
              </a:rPr>
              <a:t>Школьный этап</a:t>
            </a:r>
            <a:br>
              <a:rPr sz="2400"/>
            </a:br>
            <a:r>
              <a:rPr b="1" i="1" lang="ru-RU" sz="1800" spc="-1" strike="noStrike">
                <a:solidFill>
                  <a:srgbClr val="572314"/>
                </a:solidFill>
                <a:latin typeface="Bookman Old Style"/>
                <a:ea typeface="Arial Unicode MS"/>
              </a:rPr>
              <a:t>МКОУ МСОШ №1  </a:t>
            </a:r>
            <a:br>
              <a:rPr sz="1800"/>
            </a:br>
            <a:r>
              <a:rPr b="1" i="1" lang="ru-RU" sz="1800" spc="-1" strike="noStrike">
                <a:solidFill>
                  <a:srgbClr val="572314"/>
                </a:solidFill>
                <a:latin typeface="Bookman Old Style"/>
                <a:ea typeface="Arial Unicode MS"/>
              </a:rPr>
              <a:t>с.Маджалис,Кайтагский район.  </a:t>
            </a:r>
            <a:endParaRPr b="0" lang="en-US" sz="18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19" name="Picture 2" descr="http://roocimla.ru/uploads/posts/2013-03/1363590574_klassika.jpg"/>
          <p:cNvPicPr/>
          <p:nvPr/>
        </p:nvPicPr>
        <p:blipFill>
          <a:blip r:embed="rId1"/>
          <a:stretch/>
        </p:blipFill>
        <p:spPr>
          <a:xfrm>
            <a:off x="1187280" y="620640"/>
            <a:ext cx="7048800" cy="443700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2" descr="http://roocimla.ru/uploads/posts/2013-03/1363590574_klassika.jpg"/>
          <p:cNvPicPr/>
          <p:nvPr/>
        </p:nvPicPr>
        <p:blipFill>
          <a:blip r:embed="rId2"/>
          <a:stretch/>
        </p:blipFill>
        <p:spPr>
          <a:xfrm>
            <a:off x="1187280" y="620640"/>
            <a:ext cx="7048800" cy="44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 txBox="1"/>
          <p:nvPr/>
        </p:nvSpPr>
        <p:spPr>
          <a:xfrm>
            <a:off x="1402920" y="2057040"/>
            <a:ext cx="7497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ория конкурса.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1 год. 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курс юных чтецов «Живая классика» был учрежден в 2011 году Некоммерческим партнерством «Живая классика» (www.liveclassics.ru). В пилотном проекте приняло участие 20 000 шестиклассников из 7 городов России (Санкт-Петербург, Москва, Ярославль, Тверь, Томск, Киров, Гаврилов-Ям). В жюри конкурса вошли известные русские писатели М. Веллер, А. Королев, В. Попов и др.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</a:t>
            </a:r>
            <a:r>
              <a:rPr b="1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2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оду конкурс стал Всероссийским. В общей сложности в нем приняло участие    2 млн. подростков из 83 регионов РФ.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</a:t>
            </a:r>
            <a:r>
              <a:rPr b="1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3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оду конкурс стал международным. Помимо России в проекте принимало участие 9 стран (Армения, Азербайджан, Белоруссия, Молдова, Киргизия, Казахстан, Украина, Турция, Польша).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4 год. 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онкурсе принимали участие учебные заведения 85 регионов Российской Федерации и 25 стран (США, Китай, Австрия, Азербайджан, Великобритания, Армения, Белоруссия, Болгария, Германия, Испания, Казахстан, Киргизия, Латвия, Молдова, Нидерланды, Польша, Сербия, Словения, Турция, Украина, Финляндия, Франция, Хорватия, Швеция, Эстония).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6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од. «Живая классика» расширяет границы. В 2016 году в конкурсе смогут принять участие школьники в возрасте от 10 до 16 лет.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rbe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2" name="Прямоугольник 3"/>
          <p:cNvSpPr/>
          <p:nvPr/>
        </p:nvSpPr>
        <p:spPr>
          <a:xfrm>
            <a:off x="900000" y="26028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Международный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конкурс по чтению вслух «Живая классик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Picture 5" descr="https://pp.vk.me/c628118/v628118233/173ca/o3uVkuFvhrM.jpg"/>
          <p:cNvPicPr/>
          <p:nvPr/>
        </p:nvPicPr>
        <p:blipFill>
          <a:blip r:embed="rId1"/>
          <a:stretch/>
        </p:blipFill>
        <p:spPr>
          <a:xfrm>
            <a:off x="5292720" y="189000"/>
            <a:ext cx="3203640" cy="213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-1116360" y="69192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       </a:t>
            </a:r>
            <a:r>
              <a:rPr b="0" lang="ru-RU" sz="4300" spc="-1" strike="noStrike">
                <a:solidFill>
                  <a:srgbClr val="572314"/>
                </a:solidFill>
                <a:latin typeface="Book Antiqua"/>
              </a:rPr>
              <a:t>Цели и задачи</a:t>
            </a:r>
            <a:br>
              <a:rPr sz="4300"/>
            </a:br>
            <a:r>
              <a:rPr b="0" lang="ru-RU" sz="4300" spc="-1" strike="noStrike">
                <a:solidFill>
                  <a:srgbClr val="572314"/>
                </a:solidFill>
                <a:latin typeface="Book Antiqua"/>
              </a:rPr>
              <a:t>       конкурса: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1403280" y="2349360"/>
            <a:ext cx="763272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4f271c"/>
                </a:solidFill>
                <a:latin typeface="Times New Roman"/>
                <a:ea typeface="Times New Roman"/>
              </a:rPr>
              <a:t>1.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ышение интереса к чтению детей и подростков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Формирование сообщества читающих детей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Расширение читательского кругозора детей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Возрождение традиций семейного чтения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Знакомство детей с современной детской и подростковой литературой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Повышение общественного интереса к библиотекам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Повышение уровня грамотности населения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Поиск и поддержка талантливых детей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7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6" name="Picture 2" descr="http://roocimla.ru/uploads/posts/2013-03/1363590574_klassika.jpg"/>
          <p:cNvPicPr/>
          <p:nvPr/>
        </p:nvPicPr>
        <p:blipFill>
          <a:blip r:embed="rId1"/>
          <a:stretch/>
        </p:blipFill>
        <p:spPr>
          <a:xfrm>
            <a:off x="5867280" y="0"/>
            <a:ext cx="288144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618920" y="765000"/>
            <a:ext cx="381636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Жюри школьного этапа конкурса</a:t>
            </a:r>
            <a:r>
              <a:rPr b="0" lang="ru-RU" sz="40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:</a:t>
            </a: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1476000" y="2565000"/>
            <a:ext cx="7497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c32d2e"/>
                </a:solidFill>
                <a:latin typeface="Times New Roman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32d2e"/>
                </a:solidFill>
                <a:latin typeface="Times New Roman"/>
                <a:ea typeface="Times New Roman"/>
              </a:rPr>
              <a:t>Куруцова Альбина Сергеевна, </a:t>
            </a:r>
            <a:r>
              <a:rPr b="1" i="1" lang="ru-RU" sz="2600" spc="-1" strike="noStrike">
                <a:solidFill>
                  <a:srgbClr val="c32d2e"/>
                </a:solidFill>
                <a:latin typeface="Times New Roman"/>
                <a:ea typeface="Times New Roman"/>
              </a:rPr>
              <a:t>заведующая школьной библиотекой 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c32d2e"/>
                </a:solidFill>
                <a:latin typeface="Times New Roman"/>
                <a:ea typeface="Times New Roman"/>
              </a:rPr>
              <a:t>   </a:t>
            </a:r>
            <a:r>
              <a:rPr b="1" i="1" lang="ru-RU" sz="2600" spc="-1" strike="noStrike">
                <a:solidFill>
                  <a:srgbClr val="c32d2e"/>
                </a:solidFill>
                <a:latin typeface="Times New Roman"/>
                <a:ea typeface="Times New Roman"/>
              </a:rPr>
              <a:t>МКОУ СОШ №1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32d2e"/>
                </a:solidFill>
                <a:latin typeface="Times New Roman"/>
                <a:ea typeface="Times New Roman"/>
              </a:rPr>
              <a:t>Зубаилова Патимат Ашурбековна,учитель русского яыка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32d2e"/>
                </a:solidFill>
                <a:latin typeface="Times New Roman"/>
                <a:ea typeface="Times New Roman"/>
              </a:rPr>
              <a:t>и литературы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c32d2e"/>
                </a:solidFill>
                <a:latin typeface="Times New Roman"/>
                <a:ea typeface="Times New Roman"/>
              </a:rPr>
              <a:t>Мухтарова Зухра Алиевна ,учитель русского языка и литературы 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c32d2e"/>
                </a:solidFill>
                <a:latin typeface="Times New Roman"/>
                <a:ea typeface="Times New Roman"/>
              </a:rPr>
              <a:t>Муртузалиева Загра Габибуллаевна ,учитель русского языка и литератры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9" name="Picture 2" descr="http://roocimla.ru/uploads/posts/2013-03/1363590574_klassika.jpg"/>
          <p:cNvPicPr/>
          <p:nvPr/>
        </p:nvPicPr>
        <p:blipFill>
          <a:blip r:embed="rId1"/>
          <a:stretch/>
        </p:blipFill>
        <p:spPr>
          <a:xfrm>
            <a:off x="5940360" y="260280"/>
            <a:ext cx="2808360" cy="176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 txBox="1"/>
          <p:nvPr/>
        </p:nvSpPr>
        <p:spPr>
          <a:xfrm>
            <a:off x="1042920" y="2276640"/>
            <a:ext cx="76932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7108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Gill Sans MT"/>
              </a:rPr>
              <a:t>  </a:t>
            </a:r>
            <a:r>
              <a:rPr b="1" i="1" lang="ru-RU" sz="2000" spc="-1" strike="noStrike">
                <a:solidFill>
                  <a:srgbClr val="aa8a14"/>
                </a:solidFill>
                <a:latin typeface="Book Antiqua"/>
              </a:rPr>
              <a:t>Критерии оценки  конкурса: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aa8a14"/>
                </a:solidFill>
                <a:latin typeface="Book Antiqua"/>
              </a:rPr>
              <a:t>	</a:t>
            </a:r>
            <a:r>
              <a:rPr b="1" lang="en-US" sz="2000" spc="-1" strike="noStrike">
                <a:solidFill>
                  <a:srgbClr val="aa8a14"/>
                </a:solidFill>
                <a:latin typeface="Book Antiqua"/>
              </a:rPr>
              <a:t> </a:t>
            </a:r>
            <a:r>
              <a:rPr b="1" lang="ru-RU" sz="2000" spc="-1" strike="noStrike">
                <a:solidFill>
                  <a:srgbClr val="4f271c"/>
                </a:solidFill>
                <a:latin typeface="Book Antiqua"/>
              </a:rPr>
              <a:t>Выступления оцениваются по следующим параметрам: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f271c"/>
                </a:solidFill>
                <a:latin typeface="Book Antiqua"/>
              </a:rPr>
              <a:t>	</a:t>
            </a:r>
            <a:r>
              <a:rPr b="1" lang="en-US" sz="2000" spc="-1" strike="noStrike">
                <a:solidFill>
                  <a:srgbClr val="4f271c"/>
                </a:solidFill>
                <a:latin typeface="Book Antiqua"/>
              </a:rPr>
              <a:t>-</a:t>
            </a:r>
            <a:r>
              <a:rPr b="1" lang="ru-RU" sz="2000" spc="-1" strike="noStrike">
                <a:solidFill>
                  <a:srgbClr val="4f271c"/>
                </a:solidFill>
                <a:latin typeface="Book Antiqua"/>
              </a:rPr>
              <a:t> выбор текста произведения;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f271c"/>
                </a:solidFill>
                <a:latin typeface="Book Antiqua"/>
              </a:rPr>
              <a:t>	</a:t>
            </a:r>
            <a:r>
              <a:rPr b="1" lang="en-US" sz="2000" spc="-1" strike="noStrike">
                <a:solidFill>
                  <a:srgbClr val="4f271c"/>
                </a:solidFill>
                <a:latin typeface="Book Antiqua"/>
              </a:rPr>
              <a:t>-</a:t>
            </a:r>
            <a:r>
              <a:rPr b="1" lang="ru-RU" sz="2000" spc="-1" strike="noStrike">
                <a:solidFill>
                  <a:srgbClr val="4f271c"/>
                </a:solidFill>
                <a:latin typeface="Book Antiqua"/>
              </a:rPr>
              <a:t> грамотная речь;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f271c"/>
                </a:solidFill>
                <a:latin typeface="Book Antiqua"/>
              </a:rPr>
              <a:t>	</a:t>
            </a:r>
            <a:r>
              <a:rPr b="1" lang="en-US" sz="2000" spc="-1" strike="noStrike">
                <a:solidFill>
                  <a:srgbClr val="4f271c"/>
                </a:solidFill>
                <a:latin typeface="Book Antiqua"/>
              </a:rPr>
              <a:t>-</a:t>
            </a:r>
            <a:r>
              <a:rPr b="1" lang="ru-RU" sz="2000" spc="-1" strike="noStrike">
                <a:solidFill>
                  <a:srgbClr val="4f271c"/>
                </a:solidFill>
                <a:latin typeface="Book Antiqua"/>
              </a:rPr>
              <a:t> артистизм исполнения;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f271c"/>
                </a:solidFill>
                <a:latin typeface="Book Antiqua"/>
              </a:rPr>
              <a:t>	</a:t>
            </a:r>
            <a:r>
              <a:rPr b="1" lang="en-US" sz="2000" spc="-1" strike="noStrike">
                <a:solidFill>
                  <a:srgbClr val="4f271c"/>
                </a:solidFill>
                <a:latin typeface="Book Antiqua"/>
              </a:rPr>
              <a:t>-</a:t>
            </a:r>
            <a:r>
              <a:rPr b="1" lang="ru-RU" sz="2000" spc="-1" strike="noStrike">
                <a:solidFill>
                  <a:srgbClr val="4f271c"/>
                </a:solidFill>
                <a:latin typeface="Book Antiqua"/>
              </a:rPr>
              <a:t> глубина проникновения в образную систему и смысловую структуру текста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f271c"/>
                </a:solidFill>
                <a:latin typeface="Book Antiqua"/>
              </a:rPr>
              <a:t>	</a:t>
            </a:r>
            <a:r>
              <a:rPr b="1" lang="ru-RU" sz="2000" spc="-1" strike="noStrike">
                <a:solidFill>
                  <a:srgbClr val="4f271c"/>
                </a:solidFill>
                <a:latin typeface="Book Antiqua"/>
              </a:rPr>
              <a:t>	</a:t>
            </a:r>
            <a:r>
              <a:rPr b="1" lang="en-US" sz="2000" spc="-1" strike="noStrike">
                <a:solidFill>
                  <a:srgbClr val="4f271c"/>
                </a:solidFill>
                <a:latin typeface="Book Antiqua"/>
              </a:rPr>
              <a:t> </a:t>
            </a:r>
            <a:r>
              <a:rPr b="1" lang="ru-RU" sz="2000" spc="-1" strike="noStrike">
                <a:solidFill>
                  <a:srgbClr val="4f271c"/>
                </a:solidFill>
                <a:latin typeface="Book Antiqua"/>
              </a:rPr>
              <a:t>Оценка выступления участника осуществляется по 10-балльной шкале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ru-RU" sz="2000" spc="-1" strike="noStrike">
                <a:solidFill>
                  <a:srgbClr val="aa8a14"/>
                </a:solidFill>
                <a:latin typeface="Book Antiqua"/>
              </a:rPr>
              <a:t>Победители школьного этапа становятся участниками муниципального  тура Всероссийского конкурса «Живая классика». Победителей школьного этапа может быть не более трех человек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1" name="Picture 7" descr="http://rnikolsk.pnzreg.ru/files/nikolsk_pnzreg_ru/news/2015/02/17/o_1_17022015.jpg"/>
          <p:cNvPicPr/>
          <p:nvPr/>
        </p:nvPicPr>
        <p:blipFill>
          <a:blip r:embed="rId1"/>
          <a:stretch/>
        </p:blipFill>
        <p:spPr>
          <a:xfrm>
            <a:off x="5580000" y="333360"/>
            <a:ext cx="2987640" cy="22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763280" y="260280"/>
            <a:ext cx="65214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aa8a14"/>
                </a:solidFill>
                <a:latin typeface="Book Antiqua"/>
              </a:rPr>
              <a:t>Всем спасибо за участие!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971280" y="1268280"/>
            <a:ext cx="7692840" cy="185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c00000"/>
                </a:solidFill>
                <a:latin typeface="Book Antiqua"/>
              </a:rPr>
              <a:t>Поздравляем победителей школьного этапа Всероссийского конкурса «Живая классика»!</a:t>
            </a:r>
            <a:endParaRPr b="0" lang="en-US" sz="33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4" name="Picture 6" descr="http://fafka.ru/img/2011/09/book-gift.jpg"/>
          <p:cNvPicPr/>
          <p:nvPr/>
        </p:nvPicPr>
        <p:blipFill>
          <a:blip r:embed="rId1"/>
          <a:stretch/>
        </p:blipFill>
        <p:spPr>
          <a:xfrm>
            <a:off x="2556000" y="2924280"/>
            <a:ext cx="4562280" cy="364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0T13:25:01Z</dcterms:created>
  <dc:creator>Букша</dc:creator>
  <dc:description/>
  <dc:language>en-US</dc:language>
  <cp:lastModifiedBy>user</cp:lastModifiedBy>
  <dcterms:modified xsi:type="dcterms:W3CDTF">2019-12-13T06:27:47Z</dcterms:modified>
  <cp:revision>126</cp:revision>
  <dc:subject/>
  <dc:title>«ЖИВАЯ КЛАССИКА»</dc:title>
</cp:coreProperties>
</file>