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C3E-EA8B-4C97-81AF-382477EC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5E4-D283-4AC5-9357-4D1EB3C6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89F-973E-4FEF-BC47-9D0B65B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B6C-201B-4710-851C-11AF6989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BD46-C183-400F-916E-61F7FAB3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2B5A-41B5-462C-9323-1AE952B6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C3D-570B-43D9-826D-1F829D2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1D3C-5541-464A-88E8-AA4B2130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9F4B-50F5-4A31-8354-E4281237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C674-2051-4680-A9EE-299E47E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36A-B4DF-42CE-B7F7-B18244E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FE4-E551-405E-B3D1-46EEE6A7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A20D-DE1C-4A36-932E-48AFF7C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F03F-0330-4004-B5B5-4EE3B7B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F96-2DB4-41EC-B634-875D321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F46-69E4-4A2B-8629-1765BB15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8831-6503-4AC8-A4E9-3EE435F7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8FED-62CC-40F3-9DE9-E4DA3C32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8045-5842-438C-9078-3772F53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1BB4-D5BA-4BAB-983F-01C8B1C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E56F-C3B3-4DA4-B53B-505E15C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89F7-DE7F-4A6A-B653-972CF91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DE7-92B4-49E9-B3F1-61ACFB12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E0AF-9021-44B7-9D02-63327B60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1B1F-6405-4A30-ACBF-1748834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C31E-4857-4F5D-9AF2-034F7E7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F0FF-2585-42E1-99C5-0119F4D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9C8D-4AC9-450E-8A4F-C34572C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2FFB-F448-466B-81E8-50B97923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8E91-E72E-4C5A-A06E-566DDD2D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6F93-E683-460D-BC6B-7FC88922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81AD-47EC-46D5-97FE-FEAE5999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DA03-1FF9-44A8-84B3-42A91D0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7F0-E074-4204-A9BD-78D6119A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6006-3EC8-4487-AF09-5108CB95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2A87-3F5C-48A7-9FEE-5F9428F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1892-4A5D-46A2-B148-30E980D2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7B99-068D-4162-9E3D-0228FC2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9037-60E0-46AA-B12C-0E51895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B39B-3655-43A3-ACB5-9EC6BC3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8F1A-D393-4378-B860-2B0774EC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78D3-08EB-49BB-8A43-6B19113B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E491-0AF3-4B27-959E-47CB909F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43FC-6B14-4062-B693-20D8D668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882-BFF9-4449-9ECC-9A8B89E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BE29-88AD-416A-AC18-C91E232F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22B9-B44C-4A9E-B255-FC00EB6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EDE4E-67D0-44F2-B858-73AAAB0D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C2EF-D4D4-4D8B-8C5D-FEF6DB2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8CCB4-DBB9-468F-94F6-47F5164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E8A7-0DBB-4ED1-8622-A60676F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CD7A-5893-4F27-8E21-9139D02E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A8F8-6E34-49DE-94DD-1D11800C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FCC2-B8D0-4FF8-B1DA-C6D1965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217A-19EE-4D7C-9B7C-DB3E4DC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FB1-3934-4F50-9AF0-5B907A9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5D80-A5FF-44DA-B5E8-EDA8914E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8338-EA33-4F36-B7F6-FAD8C04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98A7-B24C-4117-9265-6A817092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BF2E-1CF6-48D9-BF73-336BEFA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4133D-7FE2-4D88-9B7C-5F13E3BF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C7A3-D862-4688-84CD-6157BD0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34AA-4FEE-47B4-9D34-6C54772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27F18-8699-4DB1-9FBC-07623ED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1785-CA4F-407F-8D93-E7C24BD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70C0-DA14-45C4-AC58-577B0EE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73D-BA7E-4021-9BF3-5E7C2FA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26D4-5A24-4539-BDC8-659330CE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28F1-EA1E-48D8-A130-3FE8A5CD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001D-4B9D-4233-8085-6CC54326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D120-6F24-4646-96F1-CDC77BCD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19D88-032F-48A9-982A-46AF29C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F9B7F-A5FD-4D31-AD1E-D6C3C280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03E8C-670C-40A2-AD6F-94A0036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560C-73EF-4EAF-BA46-B0C32CD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D4F2-CBD9-4A72-B8FE-70651B0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617F-16EB-463F-A313-9EA0CDA0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987-6E0E-4CC5-842F-ED1AE34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B3D2-E53D-4CA9-AD4B-1B58101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7724-FF0C-483E-B7DC-B676B71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F502-7A35-45A2-956F-82D1A527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B946-2FD2-4603-B4F8-A28A7FA5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70C1-7AAC-4932-A36F-CA44833F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73A-76CC-4948-982A-9FCC9563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69B-A388-49A8-8C44-17B0B5D221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50F-3B22-4F42-B6FE-F8FD5183F8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3E8-B35C-476E-9938-64CF5D6F15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BD5-55E1-4CCF-985D-54E3A42D92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1D7-CBAE-4144-841B-7E9C51CBD1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4FCF-463B-459B-BB31-C6B6E85312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8DC-3C73-4556-BE88-D8CA07C7A7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522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Школьный этап</a:t>
            </a:r>
            <a:br>
              <a:rPr sz="24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МКОУ МСОШ №1  </a:t>
            </a:r>
            <a:br>
              <a:rPr sz="18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с.Маджалис,Кайтагский район. 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roocimla.ru/uploads/posts/2013-03/1363590574_klassika.jpg"/>
          <p:cNvPicPr/>
          <p:nvPr/>
        </p:nvPicPr>
        <p:blipFill>
          <a:blip r:embed="rId2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02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онкур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юных чтецов «Живая классика» был учрежден в 2011 году Некоммерческим партнерством «Живая классика» (www.liveclassics.ru). В пилотном проекте приняло участие 20 000 шестиклассников из 7 городов России (Санкт-Петербург, Москва, Ярославль, Тверь, Томск, Киров, Гаврилов-Ям). В жюри конкурса вошли известные русские писатели М. Веллер, А. Королев, В. Попов и др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Всероссийским. В общей сложности в нем приняло участие    2 млн. подростков из 83 регионов РФ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международным. Помимо России в проекте принимало участие 9 стран (Армения, Азербайджан, Белоруссия, Молдова, Киргизия, Казахстан, Украина, Турция, Польша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урсе принимали участие учебные заведения 85 регионов Российской Федерации и 25 стран (США, Китай, Австрия, Азербайджан, Великобритания, Армения, Белоруссия, Болгария, Германия, Испания, Казахстан, Киргизия, Латвия, Молдова, Нидерланды, Польша, Сербия, Словения, Турция, Украина, Финляндия, Франция, Хорватия, Швеция, Эстония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 «Живая классика» расширяет границы. В 2016 году в конкурсе смогут принять участие школьники в возрасте от 10 до 16 лет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00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ждународ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онкурс по чтению вслух «Живая клас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https://pp.vk.me/c628118/v628118233/173ca/o3uVkuFvhrM.jpg"/>
          <p:cNvPicPr/>
          <p:nvPr/>
        </p:nvPicPr>
        <p:blipFill>
          <a:blip r:embed="rId1"/>
          <a:stretch/>
        </p:blipFill>
        <p:spPr>
          <a:xfrm>
            <a:off x="5292720" y="189000"/>
            <a:ext cx="3203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1116360" y="69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Цели и задачи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       конкурс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03280" y="2349360"/>
            <a:ext cx="7632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нтереса к чтению детей и подростк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ние сообщества читающи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ширение читательского кругозора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рождение традиций семейного чт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накомство детей с современной детской и подростковой литературо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ышение общественного интереса к библиотека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ышение уровня грамотности насе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иск и поддержка талантливы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867280" y="0"/>
            <a:ext cx="2881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3816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юри школьного этапа конкурса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76000" y="2565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уруцова Альбина Сергеевна,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аведующая школьной библиотекой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КОУ СОШ №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убаилова Патимат Ашурбековна,учитель русского яык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и литерату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хтарова Зухра Алиевна ,учитель русского языка и литературы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ртузалиева Загра Габибуллаевна ,учитель русского языка и литерат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42920" y="227664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2000" spc="-1" strike="noStrike">
                <a:solidFill>
                  <a:srgbClr val="aa8a14"/>
                </a:solidFill>
                <a:latin typeface="Book Antiqua"/>
              </a:rPr>
              <a:t>Критерии оценки  конкурс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a8a14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aa8a14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Выступления оцениваются по следующим параметра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выбор текста произвед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рамотная реч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артистизм исполн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лубина проникновения в образную систему и смысловую структуру текс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Оценка выступления участника осуществляется по 10-балльной шка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aa8a14"/>
                </a:solidFill>
                <a:latin typeface="Book Antiqua"/>
              </a:rPr>
              <a:t>Победители школьного этапа становятся участниками муниципального  тура Всероссийского конкурса «Живая классика». Победителей школьного этапа может быть не более тре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7" descr="http://rnikolsk.pnzreg.ru/files/nikolsk_pnzreg_ru/news/2015/02/17/o_1_17022015.jpg"/>
          <p:cNvPicPr/>
          <p:nvPr/>
        </p:nvPicPr>
        <p:blipFill>
          <a:blip r:embed="rId1"/>
          <a:stretch/>
        </p:blipFill>
        <p:spPr>
          <a:xfrm>
            <a:off x="5580000" y="33336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21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Book Antiqua"/>
              </a:rPr>
              <a:t>Всем спасибо за участи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1280" y="1268280"/>
            <a:ext cx="76928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Book Antiqua"/>
              </a:rPr>
              <a:t>Поздравляем победителей школьного этапа Всероссийского конкурса «Живая классика»!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6" descr="http://fafka.ru/img/2011/09/book-gift.jpg"/>
          <p:cNvPicPr/>
          <p:nvPr/>
        </p:nvPicPr>
        <p:blipFill>
          <a:blip r:embed="rId1"/>
          <a:stretch/>
        </p:blipFill>
        <p:spPr>
          <a:xfrm>
            <a:off x="2556000" y="2924280"/>
            <a:ext cx="4562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3:25:01Z</dcterms:created>
  <dc:creator>Букша</dc:creator>
  <dc:description/>
  <dc:language>en-US</dc:language>
  <cp:lastModifiedBy>user</cp:lastModifiedBy>
  <dcterms:modified xsi:type="dcterms:W3CDTF">2019-12-13T06:27:47Z</dcterms:modified>
  <cp:revision>126</cp:revision>
  <dc:subject/>
  <dc:title>«ЖИВАЯ КЛАССИКА»</dc:title>
</cp:coreProperties>
</file>