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8DA-208F-46DB-A866-A6E32D8E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9588-CEF8-42CF-9898-2B0855CF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75C-30CA-407D-879C-3EA8E4452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299-4849-4F5C-9687-EB28AC5BF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6878-C625-491B-A217-5117114A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D98A-1E66-40CB-BD41-CFF3EAE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5C56-D5AC-4507-B4D7-600A0803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9363-A3BD-4A76-AFC4-8B55E38A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2DEF-4A5B-4437-A27C-2C61E2A6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67CB-C49C-4A37-8DC6-3C17B512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7706-2679-4339-9970-E86DB203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826-8839-42B9-99C6-72B687F4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6C83-EAB2-48A5-8C7D-6CCBBED6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B5C3-CB98-482E-82C9-55C17ADC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173F-EB2F-4B40-A271-9919CCFB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B49A-6E19-42E7-9501-59D90A3F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126B-4911-43EB-ABDA-1FAAD801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3C9CC-3B94-41B2-B8F0-EC513946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3AF8-A20C-4005-95A7-41C07947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D0AFC-71C5-441E-92AC-46CEFDE7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3E672-BCF8-413C-AD02-0CC7732F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A3FF-31F7-483F-B8CA-493F834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47D8-51ED-4E41-9C44-6A1DAEB4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45BE-116A-4321-BB07-E1422624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43CEC-3AFC-4523-B1CE-5205E1D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A5E5F-767F-4C34-A7FB-13FBB02C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0B61-5036-4363-8093-F7A31AE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982DC-4FDB-4142-9644-FC73CF41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A3154-7CA8-4375-B0B3-6DB73972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8E284-63BB-4BB8-9B6E-F3DC9C17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5DA05-9887-472D-A192-25A6B514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C2F6-398F-4DCE-93F6-3C194402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03F5D-7384-41C0-8E5E-CC501549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095-5F97-452D-8EE9-9B559F1B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96DF0-BFD2-40F5-B5EA-BB87A7D8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D0284-53C2-425A-A1B6-57706629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D263-BCE7-48AD-AEDB-B5433344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EBC94-0155-4C32-96F9-5E5446D9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1BEC-C359-40EB-B875-25C11D68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5D686-F62B-4EBF-A357-5C1F565F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2A7C5-DCC0-40C7-9437-4DF24504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36ECD-8782-40A9-A198-D4695568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7B34-D859-46E2-9A47-3E1ABEC6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9946-0612-4D08-9A09-783B5FC8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194-992F-4434-B222-3537842A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8EA3E-93C0-4138-B8ED-F3D534CF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4CF5D-8DB7-46B2-9BB9-6C04CA04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626C3-AC27-4856-9A3D-1EA7610B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DF6BE-B120-4FB3-9D7D-33DF9474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E4E94-88AD-4FC8-8DB6-C94AC94A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A0701-B4D4-4C00-9A1D-ECB52D41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1EBC2-444D-4AB0-8015-04AFA2A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0C4F2-41CA-4AAC-96C4-09A0F4D8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1390-6CDC-4770-8782-BBD3B431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34780-5691-4AFA-899E-50F530FBE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7CB9-76A6-486C-BDFE-6C7609E6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13DC6-BA75-4F36-AB10-16744A8B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80E02-D604-462A-9586-3E81097B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EE82-4186-4434-AAAF-8AF15257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7548C-11CB-42CD-A06F-FCACD81E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191BB-E6A1-43DF-96F6-E1B021A8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8D5F-3077-4D45-A931-5B705A2B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19910-0C5F-477B-BD42-23A3E130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65512-0381-4F55-B154-1CF3EA57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CB30C-8479-41A7-8519-27826527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2EEF9-E6E1-484B-A2FD-2AF7A9B3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896C-D7D4-40AF-99ED-59E97D48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87D0C-B8F9-4438-AB0E-EB5EE767A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EB32C-D25C-4F37-9F70-6B5F75021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BB38-4639-42D4-BD74-94AD9656C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E2C5D-8956-46A7-B6E0-EDF101F7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6C7D9-B3A4-4479-9A9B-13F71F32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38288-9229-4610-A1A1-92186D06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C3599-08EE-40B0-9FA5-E95FCF7D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F9CC9-D66D-48CC-A605-FCF8C949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09ABB-6D65-4D10-99F6-4C92E86CB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081EB-CE2A-4A52-861A-09A7B8F2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D4B-2030-4FCB-8FA2-D7520DB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9BD4C-323A-4EA4-B288-0E1CCFFD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830A2-C8F7-4D37-9DA3-353C3056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8F1D-FB7C-42D1-B922-DD67A8BB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8E8BA-F048-4115-8574-20EA5BCB1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F0562-5631-42CF-9C64-449C7C9E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FBC-2745-4D5C-B17D-66295B90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94D6-313A-4AEB-ABD9-57823F53D4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132E-A894-47E9-B980-82F6A9DCE58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CDB-0A47-460B-9BF7-D255C56EF9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29BD-E45D-41E4-8D8D-A918AAEBE60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AAD8-F7D5-48DD-A2B2-DBA1CDCD0A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9A56-87CD-4371-A88C-0DC0F65EA70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0454-8BA7-4769-8BD3-F43BD7EE015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5229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Школьный этап</a:t>
            </a:r>
            <a:br>
              <a:rPr sz="24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МКОУ МСОШ №1  </a:t>
            </a:r>
            <a:br>
              <a:rPr sz="18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с.Маджалис,Кайтагский район.  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roocimla.ru/uploads/posts/2013-03/1363590574_klassika.jpg"/>
          <p:cNvPicPr/>
          <p:nvPr/>
        </p:nvPicPr>
        <p:blipFill>
          <a:blip r:embed="rId2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02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онкурс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юных чтецов «Живая классика» был учрежден в 2011 году Некоммерческим партнерством «Живая классика» (www.liveclassics.ru). В пилотном проекте приняло участие 20 000 шестиклассников из 7 городов России (Санкт-Петербург, Москва, Ярославль, Тверь, Томск, Киров, Гаврилов-Ям). В жюри конкурса вошли известные русские писатели М. Веллер, А. Королев, В. Попов и др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Всероссийским. В общей сложности в нем приняло участие    2 млн. подростков из 83 регионов РФ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международным. Помимо России в проекте принимало участие 9 стран (Армения, Азербайджан, Белоруссия, Молдова, Киргизия, Казахстан, Украина, Турция, Польша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урсе принимали участие учебные заведения 85 регионов Российской Федерации и 25 стран (США, Китай, Австрия, Азербайджан, Великобритания, Армения, Белоруссия, Болгария, Германия, Испания, Казахстан, Киргизия, Латвия, Молдова, Нидерланды, Польша, Сербия, Словения, Турция, Украина, Финляндия, Франция, Хорватия, Швеция, Эстония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. «Живая классика» расширяет границы. В 2016 году в конкурсе смогут принять участие школьники в возрасте от 10 до 16 лет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900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ждународ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онкурс по чтению вслух «Живая клас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https://pp.vk.me/c628118/v628118233/173ca/o3uVkuFvhrM.jpg"/>
          <p:cNvPicPr/>
          <p:nvPr/>
        </p:nvPicPr>
        <p:blipFill>
          <a:blip r:embed="rId1"/>
          <a:stretch/>
        </p:blipFill>
        <p:spPr>
          <a:xfrm>
            <a:off x="5292720" y="189000"/>
            <a:ext cx="32036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1116360" y="69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Цели и задачи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       конкурс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03280" y="2349360"/>
            <a:ext cx="7632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нтереса к чтению детей и подростк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ние сообщества читающи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ширение читательского кругозора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зрождение традиций семейного чт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накомство детей с современной детской и подростковой литературо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вышение общественного интереса к библиотекам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вышение уровня грамотности насе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оиск и поддержка талантливы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867280" y="0"/>
            <a:ext cx="2881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38163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Жюри школьного этапа конкурса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76000" y="2565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уруцова Альбина Сергеевна,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аведующая школьной библиотекой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КОУ СОШ №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убаилова Патимат Ашурбековна,учитель русского яык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и литератур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хтарова Зухра Алиевна ,учитель русского языка и литературы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ртузалиева Загра Габибуллаевна ,учитель русского языка и литерат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42920" y="227664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ru-RU" sz="2000" spc="-1" strike="noStrike">
                <a:solidFill>
                  <a:srgbClr val="aa8a14"/>
                </a:solidFill>
                <a:latin typeface="Book Antiqua"/>
              </a:rPr>
              <a:t>Критерии оценки  конкурс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a8a14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aa8a14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Выступления оцениваются по следующим параметра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выбор текста произвед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рамотная реч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артистизм исполн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лубина проникновения в образную систему и смысловую структуру текс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Оценка выступления участника осуществляется по 10-балльной шка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aa8a14"/>
                </a:solidFill>
                <a:latin typeface="Book Antiqua"/>
              </a:rPr>
              <a:t>Победители школьного этапа становятся участниками муниципального  тура Всероссийского конкурса «Живая классика». Победителей школьного этапа может быть не более тре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7" descr="http://rnikolsk.pnzreg.ru/files/nikolsk_pnzreg_ru/news/2015/02/17/o_1_17022015.jpg"/>
          <p:cNvPicPr/>
          <p:nvPr/>
        </p:nvPicPr>
        <p:blipFill>
          <a:blip r:embed="rId1"/>
          <a:stretch/>
        </p:blipFill>
        <p:spPr>
          <a:xfrm>
            <a:off x="5580000" y="33336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21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Book Antiqua"/>
              </a:rPr>
              <a:t>Всем спасибо за участие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71280" y="1268280"/>
            <a:ext cx="76928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Book Antiqua"/>
              </a:rPr>
              <a:t>Поздравляем победителей школьного этапа Всероссийского конкурса «Живая классика»!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6" descr="http://fafka.ru/img/2011/09/book-gift.jpg"/>
          <p:cNvPicPr/>
          <p:nvPr/>
        </p:nvPicPr>
        <p:blipFill>
          <a:blip r:embed="rId1"/>
          <a:stretch/>
        </p:blipFill>
        <p:spPr>
          <a:xfrm>
            <a:off x="2556000" y="2924280"/>
            <a:ext cx="4562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3:25:01Z</dcterms:created>
  <dc:creator>Букша</dc:creator>
  <dc:description/>
  <dc:language>en-US</dc:language>
  <cp:lastModifiedBy>user</cp:lastModifiedBy>
  <dcterms:modified xsi:type="dcterms:W3CDTF">2019-12-13T06:27:47Z</dcterms:modified>
  <cp:revision>126</cp:revision>
  <dc:subject/>
  <dc:title>«ЖИВАЯ КЛАССИКА»</dc:title>
</cp:coreProperties>
</file>