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7E57-D89B-4D0A-A2B3-61572DE0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EBF3-4039-4BF5-A29C-701B36CA8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15DAA-5794-4033-A6AF-A0336343E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9310-4675-4C42-BDCA-7DD57C55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F934-13A0-4825-B84E-0036F6321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40FAA-4365-4C02-ACBE-462909C3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49760-1B4B-4535-AEA2-4A2A041FB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E505-C2FC-4F73-BECF-1F44B9EC7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32690-3A30-4EE9-88E8-4C66BFD31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8EA50-F576-4ED5-AC94-D7218CEA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B1E3E-0737-4566-98A5-AEF767340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AC00-391A-438F-B234-B459A721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AFF04-8793-4D35-A2D7-5EFCD5D8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783FE-9B56-4558-AE8D-3E209740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1D096-34A5-450A-9C54-18CB03E4F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DFEE-5271-4E09-B9E9-FC6A0ACB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79F2E-6869-4B63-AE7F-C2303E71C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D453D2-2D81-4663-85F5-760D54CA2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EB29B6-D683-40D3-8B59-37E9D408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6A5FE-E201-4913-A2F5-709A3F6D8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4093AC-6F59-455F-B1FF-25C5A7EE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9EA8B-AC13-41F9-8BF2-C999E5C6F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C1FE-5E88-4EEA-B269-F508E2650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B8566-A2CF-4F8C-8C62-112A804A4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F4E2F7-AC8B-4F67-AED5-898A69832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0DCC9-4BCB-4DBF-8AD0-EA5D45E73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9277F-E36B-4946-BF87-1D1D9B222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31A91-E3B7-49BC-B7A4-13B612987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EDE80-B3F9-40E6-83BD-537855C4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1A56F5-DA46-457A-9EE1-5BBE6F3B2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DFDAA5-F277-4EEF-8B30-3ABBB2947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D5546D-1E5B-44F3-86C2-C2980A78C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495D0-3039-46FF-BA8C-870BF04C5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9CD82-F734-440A-B5E0-AE945096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F5E81E-912A-412E-923B-EBBBDD815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9779F-0F99-4E8A-BFE6-2C9D2F0F6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70BA59-B3C1-4B06-9868-DCAA66E6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435E0-F823-4313-9B78-0CAE0537C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8CB66-1CC8-4E92-ACCB-A6E6B8FF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44072-31C0-418D-8343-E937C790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8358A-EC35-41A9-9597-3ACA8D75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14A06-6949-4522-B856-27CB735B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0D2C2-F29E-49B5-A309-1306554F8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01A299-7189-4803-80EF-ABFDD70B6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BE63-67CF-42C3-87AD-B3B6789C6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5011B-50D3-4A99-87F0-2D1A1D6B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40620-83F9-4505-89C3-1C18E7562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F1899-B022-4F53-B06F-998686E8B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75A076-ED6D-4865-98FC-37A016FFA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23403-091C-48AF-BB94-639EF685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E3A24-F047-4889-A4BA-5D0A1082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D6A84-C475-4106-AD7E-146F3F96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791566-444E-4167-BC19-293DC1C1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693D2-517F-4231-935F-D55C75A0E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6878C-EA9B-47C4-A89E-C42FC0ADA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803-129B-46B5-896C-869F6E838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CA805-1C3D-467C-8696-E679D56C9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4174D7-8B99-4A15-B104-F6931207A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46E4C3-5751-48EA-8630-D132394C5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DC105-AE51-4002-B70D-B900FD0E6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A4D491-321D-471E-A713-7440E12C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947F9-28CC-43B6-A2A8-A48392CB8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348BA-3D66-464E-98AD-2A9CB573E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9F9553-C706-421C-B52F-9EDDBAE36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FD100-4B48-451E-9C9D-6D435F155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F6A33-55FC-4CED-ABDD-509A87BB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7123-B58D-4106-9DF9-E2B67BA5B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5F6B96-2907-48FB-BCAC-59AC4B4DA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7191B-E80A-4976-9FF8-3BC4A4E1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AA20F9-9724-4BB9-8143-714D769A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8E45DB-DB3F-4E1B-B2BD-897CAE702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8A48B-0B5D-4D98-B50F-528A6E71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FE872E-6523-4E3D-A42C-92745C8E2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5A106-1D0E-4446-99B7-DF67481B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F45634-D767-4150-87FD-1DD8BD474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2BC17C-F514-4CF4-93E8-D79675A2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81730-4986-4A8B-B9CE-AF64ADFA4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C92A0-A4D2-4564-A258-76D7BE94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0DF89E-F3AC-4556-B19A-1BB4A7CED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A89B99-E2D2-4109-8B68-6A0F491A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534A4E-1231-4982-8300-19E464DFD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12CAF-FB4E-441E-8AC3-401FC032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E30E0D-B53C-4072-9F88-2E8B079A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13D4-9654-4F41-911C-0A875F4E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ECB21-3369-4E83-8C3D-18B18A9F896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300" h="1638300">
                <a:moveTo>
                  <a:pt x="1638300" y="819150"/>
                </a:moveTo>
                <a:lnTo>
                  <a:pt x="1638300" y="819150"/>
                </a:lnTo>
                <a:arcTo wR="819150" hR="819150" stAng="0" swAng="5402124"/>
                <a:lnTo>
                  <a:pt x="81915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9CD43-394E-4AC1-A22D-6CC55515D14F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E5B3B-D51F-4A97-827D-66EFEEFB540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848E-753F-42C9-8A5C-6831A6F2EE8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EAA5B-DCF4-441D-BE1C-5CD2AC78DC50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95CFD-ED0E-4603-8CDE-BD83CD639D3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C57A9-5FF2-49ED-9E97-488F9A6C188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16000" y="5229360"/>
            <a:ext cx="7345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572314"/>
                </a:solidFill>
                <a:latin typeface="Bookman Old Style"/>
                <a:ea typeface="Arial Unicode MS"/>
              </a:rPr>
              <a:t>Школьный этап</a:t>
            </a:r>
            <a:br>
              <a:rPr sz="2400"/>
            </a:br>
            <a:r>
              <a:rPr b="1" i="1" lang="ru-RU" sz="1800" spc="-1" strike="noStrike">
                <a:solidFill>
                  <a:srgbClr val="572314"/>
                </a:solidFill>
                <a:latin typeface="Bookman Old Style"/>
                <a:ea typeface="Arial Unicode MS"/>
              </a:rPr>
              <a:t>МКОУ МСОШ №1  </a:t>
            </a:r>
            <a:br>
              <a:rPr sz="1800"/>
            </a:br>
            <a:r>
              <a:rPr b="1" i="1" lang="ru-RU" sz="1800" spc="-1" strike="noStrike">
                <a:solidFill>
                  <a:srgbClr val="572314"/>
                </a:solidFill>
                <a:latin typeface="Bookman Old Style"/>
                <a:ea typeface="Arial Unicode MS"/>
              </a:rPr>
              <a:t>с.Маджалис,Кайтагский район.  </a:t>
            </a:r>
            <a:endParaRPr b="0" lang="en-US" sz="18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19" name="Picture 2" descr="http://roocimla.ru/uploads/posts/2013-03/1363590574_klassika.jpg"/>
          <p:cNvPicPr/>
          <p:nvPr/>
        </p:nvPicPr>
        <p:blipFill>
          <a:blip r:embed="rId1"/>
          <a:stretch/>
        </p:blipFill>
        <p:spPr>
          <a:xfrm>
            <a:off x="1187280" y="620640"/>
            <a:ext cx="7048800" cy="44370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2" descr="http://roocimla.ru/uploads/posts/2013-03/1363590574_klassika.jpg"/>
          <p:cNvPicPr/>
          <p:nvPr/>
        </p:nvPicPr>
        <p:blipFill>
          <a:blip r:embed="rId2"/>
          <a:stretch/>
        </p:blipFill>
        <p:spPr>
          <a:xfrm>
            <a:off x="1187280" y="620640"/>
            <a:ext cx="70488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1402920" y="205704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рия конкурса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1 год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 юных чтецов «Живая классика» был учрежден в 2011 году Некоммерческим партнерством «Живая классика» (www.liveclassics.ru). В пилотном проекте приняло участие 20 000 шестиклассников из 7 городов России (Санкт-Петербург, Москва, Ярославль, Тверь, Томск, Киров, Гаврилов-Ям). В жюри конкурса вошли известные русские писатели М. Веллер, А. Королев, В. Попов и др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2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у конкурс стал Всероссийским. В общей сложности в нем приняло участие    2 млн. подростков из 83 регионов РФ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3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у конкурс стал международным. Помимо России в проекте принимало участие 9 стран (Армения, Азербайджан, Белоруссия, Молдова, Киргизия, Казахстан, Украина, Турция, Польша)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4 год.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нкурсе принимали участие учебные заведения 85 регионов Российской Федерации и 25 стран (США, Китай, Австрия, Азербайджан, Великобритания, Армения, Белоруссия, Болгария, Германия, Испания, Казахстан, Киргизия, Латвия, Молдова, Нидерланды, Польша, Сербия, Словения, Турция, Украина, Финляндия, Франция, Хорватия, Швеция, Эстония)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6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од. «Живая классика» расширяет границы. В 2016 году в конкурсе смогут принять участие школьники в возрасте от 10 до 16 лет.</a:t>
            </a: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orbe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Прямоугольник 3"/>
          <p:cNvSpPr/>
          <p:nvPr/>
        </p:nvSpPr>
        <p:spPr>
          <a:xfrm>
            <a:off x="900000" y="26028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Международный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онкурс по чтению вслух «Живая класс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5" descr="https://pp.vk.me/c628118/v628118233/173ca/o3uVkuFvhrM.jpg"/>
          <p:cNvPicPr/>
          <p:nvPr/>
        </p:nvPicPr>
        <p:blipFill>
          <a:blip r:embed="rId1"/>
          <a:stretch/>
        </p:blipFill>
        <p:spPr>
          <a:xfrm>
            <a:off x="5292720" y="189000"/>
            <a:ext cx="3203640" cy="21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1116360" y="691920"/>
            <a:ext cx="749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       </a:t>
            </a:r>
            <a:r>
              <a:rPr b="0" lang="ru-RU" sz="4300" spc="-1" strike="noStrike">
                <a:solidFill>
                  <a:srgbClr val="572314"/>
                </a:solidFill>
                <a:latin typeface="Book Antiqua"/>
              </a:rPr>
              <a:t>Цели и задачи</a:t>
            </a:r>
            <a:br>
              <a:rPr sz="4300"/>
            </a:br>
            <a:r>
              <a:rPr b="0" lang="ru-RU" sz="4300" spc="-1" strike="noStrike">
                <a:solidFill>
                  <a:srgbClr val="572314"/>
                </a:solidFill>
                <a:latin typeface="Book Antiqua"/>
              </a:rPr>
              <a:t>       конкурса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1403280" y="2349360"/>
            <a:ext cx="763272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4f271c"/>
                </a:solidFill>
                <a:latin typeface="Times New Roman"/>
                <a:ea typeface="Times New Roman"/>
              </a:rPr>
              <a:t>1.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интереса к чтению детей и подростков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Формирование сообщества читающих дете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Расширение читательского кругозора дете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Возрождение традиций семейного чтен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накомство детей с современной детской и подростковой литературо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 Повышение общественного интереса к библиотекам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Повышение уровня грамотности населения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Поиск и поддержка талантливых детей</a:t>
            </a: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7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6" name="Picture 2" descr="http://roocimla.ru/uploads/posts/2013-03/1363590574_klassika.jpg"/>
          <p:cNvPicPr/>
          <p:nvPr/>
        </p:nvPicPr>
        <p:blipFill>
          <a:blip r:embed="rId1"/>
          <a:stretch/>
        </p:blipFill>
        <p:spPr>
          <a:xfrm>
            <a:off x="5867280" y="0"/>
            <a:ext cx="2881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618920" y="765000"/>
            <a:ext cx="38163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Жюри школьного этапа конкурса</a:t>
            </a:r>
            <a:r>
              <a:rPr b="0" lang="ru-RU" sz="4000" spc="-1" strike="noStrike">
                <a:solidFill>
                  <a:srgbClr val="572314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1476000" y="256500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Куруцова Альбина Сергеевна, </a:t>
            </a: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заведующая школьной библиотекой 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   </a:t>
            </a: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МКОУ СОШ №1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Зубаилова Патимат Ашурбековна,учитель русского яыка 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и литературы.</a:t>
            </a:r>
            <a:endParaRPr b="0" lang="en-US" sz="30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Мухтарова Зухра Алиевна ,учитель русского языка и литературы 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c32d2e"/>
                </a:solidFill>
                <a:latin typeface="Times New Roman"/>
                <a:ea typeface="Times New Roman"/>
              </a:rPr>
              <a:t>Муртузалиева Загра Габибуллаевна ,учитель русского языка и литератры.</a:t>
            </a:r>
            <a:endParaRPr b="0" lang="en-US" sz="26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29" name="Picture 2" descr="http://roocimla.ru/uploads/posts/2013-03/1363590574_klassika.jpg"/>
          <p:cNvPicPr/>
          <p:nvPr/>
        </p:nvPicPr>
        <p:blipFill>
          <a:blip r:embed="rId1"/>
          <a:stretch/>
        </p:blipFill>
        <p:spPr>
          <a:xfrm>
            <a:off x="5940360" y="260280"/>
            <a:ext cx="2808360" cy="17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1042920" y="2276640"/>
            <a:ext cx="76932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Gill Sans MT"/>
              </a:rPr>
              <a:t>  </a:t>
            </a:r>
            <a:r>
              <a:rPr b="1" i="1" lang="ru-RU" sz="2000" spc="-1" strike="noStrike">
                <a:solidFill>
                  <a:srgbClr val="aa8a14"/>
                </a:solidFill>
                <a:latin typeface="Book Antiqua"/>
              </a:rPr>
              <a:t>Критерии оценки  конкурса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aa8a14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aa8a14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Выступления оцениваются по следующим параметрам: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-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 выбор текста произведе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-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 грамотная речь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-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 артистизм исполнения;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-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 глубина проникновения в образную систему и смысловую структуру текста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	</a:t>
            </a:r>
            <a:r>
              <a:rPr b="1" lang="en-US" sz="2000" spc="-1" strike="noStrike">
                <a:solidFill>
                  <a:srgbClr val="4f271c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4f271c"/>
                </a:solidFill>
                <a:latin typeface="Book Antiqua"/>
              </a:rPr>
              <a:t>Оценка выступления участника осуществляется по 10-балльной шкале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  <a:p>
            <a:pPr marL="350280" indent="-271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	</a:t>
            </a:r>
            <a:r>
              <a:rPr b="1" lang="ru-RU" sz="2000" spc="-1" strike="noStrike">
                <a:solidFill>
                  <a:srgbClr val="aa8a14"/>
                </a:solidFill>
                <a:latin typeface="Book Antiqua"/>
              </a:rPr>
              <a:t>Победители школьного этапа становятся участниками муниципального  тура Всероссийского конкурса «Живая классика». Победителей школьного этапа может быть не более трех человек.</a:t>
            </a:r>
            <a:endParaRPr b="0" lang="en-US" sz="20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7" descr="http://rnikolsk.pnzreg.ru/files/nikolsk_pnzreg_ru/news/2015/02/17/o_1_17022015.jpg"/>
          <p:cNvPicPr/>
          <p:nvPr/>
        </p:nvPicPr>
        <p:blipFill>
          <a:blip r:embed="rId1"/>
          <a:stretch/>
        </p:blipFill>
        <p:spPr>
          <a:xfrm>
            <a:off x="5580000" y="333360"/>
            <a:ext cx="2987640" cy="22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763280" y="260280"/>
            <a:ext cx="65214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aa8a14"/>
                </a:solidFill>
                <a:latin typeface="Book Antiqua"/>
              </a:rPr>
              <a:t>Всем спасибо за участие!</a:t>
            </a:r>
            <a:endParaRPr b="0" lang="en-US" sz="36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971280" y="1268280"/>
            <a:ext cx="769284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c00000"/>
                </a:solidFill>
                <a:latin typeface="Book Antiqua"/>
              </a:rPr>
              <a:t>Поздравляем победителей школьного этапа Всероссийского конкурса «Живая классика»!</a:t>
            </a:r>
            <a:endParaRPr b="0" lang="en-US" sz="33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4" name="Picture 6" descr="http://fafka.ru/img/2011/09/book-gift.jpg"/>
          <p:cNvPicPr/>
          <p:nvPr/>
        </p:nvPicPr>
        <p:blipFill>
          <a:blip r:embed="rId1"/>
          <a:stretch/>
        </p:blipFill>
        <p:spPr>
          <a:xfrm>
            <a:off x="2556000" y="2924280"/>
            <a:ext cx="45622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0T13:25:01Z</dcterms:created>
  <dc:creator>Букша</dc:creator>
  <dc:description/>
  <dc:language>en-US</dc:language>
  <cp:lastModifiedBy>user</cp:lastModifiedBy>
  <dcterms:modified xsi:type="dcterms:W3CDTF">2019-12-13T06:27:47Z</dcterms:modified>
  <cp:revision>126</cp:revision>
  <dc:subject/>
  <dc:title>«ЖИВАЯ КЛАССИКА»</dc:title>
</cp:coreProperties>
</file>